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2.wmf" ContentType="image/x-wmf"/>
  <Override PartName="/ppt/media/image19.jpeg" ContentType="image/jpeg"/>
  <Override PartName="/ppt/media/image17.png" ContentType="image/png"/>
  <Override PartName="/ppt/media/image20.wmf" ContentType="image/x-wmf"/>
  <Override PartName="/ppt/media/image16.png" ContentType="image/png"/>
  <Override PartName="/ppt/media/image26.wmf" ContentType="image/x-wmf"/>
  <Override PartName="/ppt/media/image15.jpeg" ContentType="image/jpeg"/>
  <Override PartName="/ppt/media/image25.wmf" ContentType="image/x-wmf"/>
  <Override PartName="/ppt/media/image8.gif" ContentType="image/gif"/>
  <Override PartName="/ppt/media/image21.wmf" ContentType="image/x-wmf"/>
  <Override PartName="/ppt/media/image18.jpeg" ContentType="image/jpeg"/>
  <Override PartName="/ppt/media/image36.png" ContentType="image/png"/>
  <Override PartName="/ppt/media/image30.png" ContentType="image/png"/>
  <Override PartName="/ppt/media/image10.jpeg" ContentType="image/jpeg"/>
  <Override PartName="/ppt/media/image31.png" ContentType="image/png"/>
  <Override PartName="/ppt/media/image3.gif" ContentType="image/gif"/>
  <Override PartName="/ppt/media/image32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29.png" ContentType="image/png"/>
  <Override PartName="/ppt/media/image6.gif" ContentType="image/gif"/>
  <Override PartName="/ppt/media/image35.png" ContentType="image/png"/>
  <Override PartName="/ppt/media/image7.gif" ContentType="image/gif"/>
  <Override PartName="/ppt/media/image37.png" ContentType="image/png"/>
  <Override PartName="/ppt/media/image38.png" ContentType="image/png"/>
  <Override PartName="/ppt/media/image9.jpeg" ContentType="image/jpeg"/>
  <Override PartName="/ppt/media/image11.gif" ContentType="image/gif"/>
  <Override PartName="/ppt/media/image12.wmf" ContentType="image/x-wmf"/>
  <Override PartName="/ppt/media/image4.gif" ContentType="image/gif"/>
  <Override PartName="/ppt/media/image27.png" ContentType="image/png"/>
  <Override PartName="/ppt/media/image2.jpeg" ContentType="image/jpeg"/>
  <Override PartName="/ppt/media/image23.jpeg" ContentType="image/jpeg"/>
  <Override PartName="/ppt/media/image28.png" ContentType="image/png"/>
  <Override PartName="/ppt/media/image5.gif" ContentType="image/gif"/>
  <Override PartName="/ppt/media/image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C44-70A6-449E-B83C-71C69220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556-DB1B-49D9-A218-A784EED1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0E7-5E70-40BD-A70E-28078502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DC52-1B64-4055-91A0-A0F7D975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5DFE-9236-4F2E-AF77-F36E9C15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827E-BCDD-43F9-9389-F58B2B3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A134-580C-4C34-9778-74B658DF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3D11-5A53-4619-A0AB-618E0C8D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2D99-586C-4886-AB45-0704F555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B7E-2785-455C-BDD9-88463456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CBD1-146D-4ECE-9C17-9193E80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6B7D-A20F-45E4-BF6F-6082A54C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0F7E-403D-455F-9789-DBC37691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30B1-6CB4-4C71-A2F0-1F5E1295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F6FB-B5DB-4419-B242-FC2611D2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68DA-0752-441A-8CBA-6E18664C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6AC8-0F8F-4FC5-AEB1-87B92C85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397D-6C54-40D1-9768-7F5C2DC7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24D6-AC8B-446D-8FC6-5F11202A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BF071-9C78-47DB-B3BF-73B2BEEC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CC76-D945-4497-9842-1C46D2DC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0888A-8CB8-4D5C-A088-36845902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BF5D-ACEC-4D9E-B19D-A3801026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71F8-4A10-42D6-80E0-D371CC20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7C481-7F7D-4EA8-B42C-8879E65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E6554-F0DB-48CC-8210-5FCAF9F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7CEC-E80A-434A-BC60-621EB03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094E-7C10-4C5B-BDFE-CB91DF99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A27BF-0D1A-437F-8904-FB42BF20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32E0B-9853-4109-B508-CDD62ED0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C2C6-DB65-4BEA-8647-073ABF56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85E-B99A-4ED4-B626-7B12F033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6E0-436B-40EA-AFFA-31543E3D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EE1-C4F3-4578-A6FE-53A37D1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73F-9115-444E-869B-8C3ABE96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03C-8EF1-4DE6-8DCC-BA4E904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0713-4645-4E9A-B450-8C5E34D42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ACA4-8636-46CD-B7A3-E4575C279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3EBA-F5C9-48A2-915C-2B2123D13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2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2.wmf"/><Relationship Id="rId10" Type="http://schemas.openxmlformats.org/officeDocument/2006/relationships/image" Target="../media/image22.wmf"/><Relationship Id="rId11" Type="http://schemas.openxmlformats.org/officeDocument/2006/relationships/image" Target="../media/image22.wmf"/><Relationship Id="rId12" Type="http://schemas.openxmlformats.org/officeDocument/2006/relationships/image" Target="../media/image22.wmf"/><Relationship Id="rId13" Type="http://schemas.openxmlformats.org/officeDocument/2006/relationships/image" Target="../media/image22.wmf"/><Relationship Id="rId14" Type="http://schemas.openxmlformats.org/officeDocument/2006/relationships/image" Target="../media/image22.wmf"/><Relationship Id="rId1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87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24000" y="3571920"/>
            <a:ext cx="8962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2319480" cy="422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50920" y="0"/>
            <a:ext cx="7093080" cy="4724280"/>
          </a:xfrm>
          <a:prstGeom prst="cloudCallout">
            <a:avLst>
              <a:gd name="adj1" fmla="val -43444"/>
              <a:gd name="adj2" fmla="val 28092"/>
            </a:avLst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ff"/>
                </a:solidFill>
                <a:latin typeface="Monotype Corsiva"/>
              </a:rPr>
              <a:t>GHICI, 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Monotype Corsiva"/>
              </a:rPr>
              <a:t>GHICITOAREA MEA!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OARELE NU DOGORE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ŞTE,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FRUNZIŞUL SE VEŞTEJEŞTE,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STRÂNGEM ROADE PE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OGOA</a:t>
            </a: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RE.</a:t>
            </a:r>
            <a:br>
              <a:rPr sz="2000"/>
            </a:br>
            <a:r>
              <a:rPr b="1" lang="ro-RO" sz="2000" spc="-1" strike="noStrike">
                <a:solidFill>
                  <a:srgbClr val="0000ff"/>
                </a:solidFill>
                <a:latin typeface="Times New Roman"/>
              </a:rPr>
              <a:t>CÂND SE-NTÂMPLĂ ASTA O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68360" y="19080"/>
            <a:ext cx="6875640" cy="68389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4000" y="170028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108000" y="2270160"/>
            <a:ext cx="2590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amna cea de roade plin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 copt fructele-n grădin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95280" y="-27000"/>
            <a:ext cx="7848720" cy="688500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-38160" y="1844640"/>
            <a:ext cx="489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ţi acei ce-ntreaga va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 lucrat din zori în sear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amna au roade bog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 şi fructe şi buc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0" y="1413000"/>
          <a:ext cx="9144000" cy="47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1116000" y="404640"/>
            <a:ext cx="1841400" cy="1403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-27000"/>
            <a:ext cx="360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re, pere în pan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une bune şi al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Şi gutui amăru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 puf galben ca de pu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584360" cy="1316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1195560" cy="1568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308720" y="2133720"/>
            <a:ext cx="1376640" cy="1728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24000" y="4908600"/>
            <a:ext cx="2476440" cy="1905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539640" y="2924280"/>
            <a:ext cx="1548000" cy="2160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7451640" y="4581360"/>
            <a:ext cx="1455840" cy="22766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7"/>
          <a:stretch/>
        </p:blipFill>
        <p:spPr>
          <a:xfrm>
            <a:off x="5651640" y="3357720"/>
            <a:ext cx="1800000" cy="15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3564000" y="1557360"/>
            <a:ext cx="1584360" cy="14749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4788000" y="5043600"/>
            <a:ext cx="2016000" cy="18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Şi tot felul de legume,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nu le mai ştii pe nu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0"/>
          <a:stretch/>
        </p:blipFill>
        <p:spPr>
          <a:xfrm>
            <a:off x="2916360" y="4724280"/>
            <a:ext cx="1836720" cy="1805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1"/>
          <a:stretch/>
        </p:blipFill>
        <p:spPr>
          <a:xfrm>
            <a:off x="2700360" y="3357720"/>
            <a:ext cx="1942920" cy="1438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2"/>
          <a:stretch/>
        </p:blipFill>
        <p:spPr>
          <a:xfrm>
            <a:off x="5784840" y="1628640"/>
            <a:ext cx="144468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54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00000" y="2205000"/>
            <a:ext cx="72010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ALIZATOR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ÎNV. 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RNELIA PRIHO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ŞCOALA GENERALĂ IERN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268360" y="549360"/>
            <a:ext cx="67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Monotype Corsiva"/>
              </a:rPr>
              <a:t>TOAMNA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bb00"/>
            </a:gs>
            <a:gs pos="50000">
              <a:srgbClr val="ffcc00"/>
            </a:gs>
            <a:gs pos="100000">
              <a:srgbClr val="eab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11280" y="1557360"/>
            <a:ext cx="6085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FENOMENE</a:t>
            </a:r>
            <a:r>
              <a:rPr b="1" lang="ro-RO" sz="8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ALE</a:t>
            </a:r>
            <a:r>
              <a:rPr b="1" lang="ro-RO" sz="8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8000" spc="-1" strike="noStrike">
                <a:solidFill>
                  <a:srgbClr val="0000ff"/>
                </a:solidFill>
                <a:latin typeface="Times New Roman"/>
              </a:rPr>
              <a:t>NATURII</a:t>
            </a:r>
            <a:r>
              <a:rPr b="1" lang="ro-RO" sz="80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443640" y="549360"/>
            <a:ext cx="1584360" cy="1506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4780080"/>
            <a:ext cx="2195640" cy="1577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6588000" y="2751120"/>
            <a:ext cx="2141640" cy="14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76280"/>
            <a:ext cx="1219320" cy="961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468360" y="2789280"/>
            <a:ext cx="1942920" cy="1252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6443640" y="5229360"/>
            <a:ext cx="191304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16000" y="216000"/>
            <a:ext cx="6300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ână albă şi pufoas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Când pluteşte tot mai joas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se umflă cenuşi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E semn că ploaia o să vi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4005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16000" y="1085760"/>
            <a:ext cx="3924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ic, pic, p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trop, trop, 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ic, pic, p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Şi trop, trop, 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Înc-un pic şi inc-un str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Plouă, plouă, plou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ff"/>
                </a:solidFill>
                <a:latin typeface="Times New Roman"/>
              </a:rPr>
              <a:t>Boabe limpezi ca de rou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484360" y="3857760"/>
            <a:ext cx="6659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1240" y="44280"/>
            <a:ext cx="4492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işcă frunzele-n livezi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hiar dacă-l auzi, nu-l vezi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rengile îndoaie-n luncă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af şi frunze-n zări arunc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2924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987640" y="3068640"/>
            <a:ext cx="1225440" cy="873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50920" y="4292640"/>
            <a:ext cx="1042920" cy="10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859280" y="765000"/>
            <a:ext cx="42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lbene şi roşii frun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n copac s-au desfrunz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acă-n aer obo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pământ toate-au căz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415620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9640" y="279360"/>
            <a:ext cx="3745080" cy="2847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3920" y="3500280"/>
            <a:ext cx="3771720" cy="312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0560" y="3716280"/>
            <a:ext cx="4249440" cy="286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126828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A venit pe nesimţ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Toamna cea din zare-albast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Şi-a stropit în zori cu a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Pomii din livada noastr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35000" y="3878280"/>
            <a:ext cx="2957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ăsări călăt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u dorul de so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 auzi trecâ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În stoluri plecâ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711760" y="4365720"/>
            <a:ext cx="3432240" cy="2038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692360" y="44280"/>
            <a:ext cx="6840360" cy="6527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8244000" y="26028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759636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687708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7308720" y="765000"/>
            <a:ext cx="497160" cy="586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7885080" y="1197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8317080" y="1557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1692360" y="18900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0"/>
          <a:stretch/>
        </p:blipFill>
        <p:spPr>
          <a:xfrm>
            <a:off x="1042920" y="144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1"/>
          <a:stretch/>
        </p:blipFill>
        <p:spPr>
          <a:xfrm>
            <a:off x="324000" y="14436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2"/>
          <a:stretch/>
        </p:blipFill>
        <p:spPr>
          <a:xfrm>
            <a:off x="755640" y="720720"/>
            <a:ext cx="496800" cy="585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3"/>
          <a:stretch/>
        </p:blipFill>
        <p:spPr>
          <a:xfrm>
            <a:off x="1332000" y="1152360"/>
            <a:ext cx="496800" cy="5860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4"/>
          <a:stretch/>
        </p:blipFill>
        <p:spPr>
          <a:xfrm>
            <a:off x="1763640" y="1512720"/>
            <a:ext cx="496800" cy="5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2:48Z</dcterms:created>
  <dc:creator>Vasile Prihoi</dc:creator>
  <dc:description/>
  <dc:language>en-US</dc:language>
  <cp:lastModifiedBy>Vasile Prihoi</cp:lastModifiedBy>
  <dcterms:modified xsi:type="dcterms:W3CDTF">2007-02-27T19:05:34Z</dcterms:modified>
  <cp:revision>15</cp:revision>
  <dc:subject/>
  <dc:title>Diapozitivul 1</dc:title>
</cp:coreProperties>
</file>